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C201-0FCC-49CB-8CC7-E1C415268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7839-3F81-4BA0-BBA1-0E652315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534C-B336-4BFF-A0F6-5DB96B838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8251-6CD9-45E2-9D77-E1869BE61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1E9F-5FE1-4F34-96E0-298F35B9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53E8-F159-49B6-8EAD-1EC73A3B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1865-7B92-464C-9885-BA6215C2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C8DC-F0C2-483C-B0E7-8D8CAE52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0BAE-0CAA-44DC-AB8F-24140E43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606E-D5B5-4E08-B7DF-7179855E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EB74-ACF8-4264-B0A8-0C0327A8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1B57-B13C-442B-A301-63C33B1C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0FA2-983E-4168-AE03-72EC8BA44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733920" y="4876920"/>
            <a:ext cx="1504800" cy="33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esiunea iunie-iulie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advTm="5000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comp_i"/>
          <p:cNvPicPr/>
          <p:nvPr/>
        </p:nvPicPr>
        <p:blipFill>
          <a:blip r:embed="rId1"/>
          <a:stretch/>
        </p:blipFill>
        <p:spPr>
          <a:xfrm>
            <a:off x="5105520" y="1828800"/>
            <a:ext cx="3593880" cy="35942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3S6</cp:lastModifiedBy>
  <dcterms:modified xsi:type="dcterms:W3CDTF">2012-06-18T10:54:34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